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9AE7-1528-4DD4-A73F-27F742A9C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A086-3C1F-4AF8-9DB2-D786CBB9A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F5AF-35CC-4C33-8413-E28F7F150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551B-977B-462E-91E7-499DD398C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8168-F606-4C5C-A68A-C45A00CB0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1091-D445-4797-A701-6C27BF60F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5816-9946-46F2-87D4-73DF17847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3B3A-2FEA-4FDB-B5D2-20F4B15BE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230E-D79D-43B0-A106-A2B37764C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90A1B-8A47-48AA-A925-014B5D55E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39D92-96AF-4B5F-BF2B-66D350AEC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DDFD7-B450-44EA-A7AF-51743848F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F5E35-4BC9-4972-ACE9-37533BF7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BFA13-F857-40EB-B53B-4B96E5DB0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2E386-C05D-4899-83EF-88AD0F559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D8455-0E8A-41BA-BBB1-945AF71D0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2E979-1ECF-4D4E-AF4B-58D133EEE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82CC6-DF44-4077-8264-B85AEA4B2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71D15-EEF3-46B4-827B-A21F9CB1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472B-641F-473F-A5ED-B84E750A7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5F13-C4FF-4793-953D-80A55F84B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5C74-9D73-4F29-A1F7-099CAEC39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bloomberg.com/apps/news?pid=email_en&amp;sid=aOsV2TLja8jU"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9</a:t>
            </a:r>
            <a:endParaRPr b="0" lang="en-US" sz="6600" spc="-1" strike="noStrike">
              <a:solidFill>
                <a:srgbClr val="000000"/>
              </a:solidFill>
              <a:latin typeface="Ari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j0234202"/>
          <p:cNvPicPr/>
          <p:nvPr/>
        </p:nvPicPr>
        <p:blipFill>
          <a:blip r:embed="rId1"/>
          <a:stretch/>
        </p:blipFill>
        <p:spPr>
          <a:xfrm>
            <a:off x="7162920" y="457200"/>
            <a:ext cx="1549440" cy="1239840"/>
          </a:xfrm>
          <a:prstGeom prst="rect">
            <a:avLst/>
          </a:prstGeom>
          <a:ln w="0">
            <a:noFill/>
          </a:ln>
        </p:spPr>
      </p:pic>
      <p:pic>
        <p:nvPicPr>
          <p:cNvPr id="51" name="Picture 5" descr="j0234202"/>
          <p:cNvPicPr/>
          <p:nvPr/>
        </p:nvPicPr>
        <p:blipFill>
          <a:blip r:embed="rId2"/>
          <a:stretch/>
        </p:blipFill>
        <p:spPr>
          <a:xfrm>
            <a:off x="533520" y="457200"/>
            <a:ext cx="1549440" cy="1239840"/>
          </a:xfrm>
          <a:prstGeom prst="rect">
            <a:avLst/>
          </a:prstGeom>
          <a:ln w="0">
            <a:noFill/>
          </a:ln>
        </p:spPr>
      </p:pic>
      <p:pic>
        <p:nvPicPr>
          <p:cNvPr id="52" name="Picture 6" descr="j0234202"/>
          <p:cNvPicPr/>
          <p:nvPr/>
        </p:nvPicPr>
        <p:blipFill>
          <a:blip r:embed="rId3"/>
          <a:stretch/>
        </p:blipFill>
        <p:spPr>
          <a:xfrm>
            <a:off x="3886200" y="457200"/>
            <a:ext cx="1549440" cy="1239840"/>
          </a:xfrm>
          <a:prstGeom prst="rect">
            <a:avLst/>
          </a:prstGeom>
          <a:ln w="0">
            <a:noFill/>
          </a:ln>
        </p:spPr>
      </p:pic>
      <p:sp>
        <p:nvSpPr>
          <p:cNvPr id="53" name="Rectangle 7"/>
          <p:cNvSpPr/>
          <p:nvPr/>
        </p:nvSpPr>
        <p:spPr>
          <a:xfrm>
            <a:off x="762120" y="441972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Capacity to Contrac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e was 17, a minor in her state, when she bought a week’s worth of groceries at a local supermarket.  Later she discovered that she spent too much money and was going to be over her weekly budget.  So she took the groceries back and asked for her money back.  If she sues, will she get her money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ya bought a car two weeks before her 18</a:t>
            </a:r>
            <a:r>
              <a:rPr b="0" lang="en-US" sz="3200" spc="-1" strike="noStrike" baseline="30000">
                <a:solidFill>
                  <a:srgbClr val="000000"/>
                </a:solidFill>
                <a:latin typeface="Arial"/>
              </a:rPr>
              <a:t>th</a:t>
            </a:r>
            <a:r>
              <a:rPr b="0" lang="en-US" sz="3200" spc="-1" strike="noStrike">
                <a:solidFill>
                  <a:srgbClr val="000000"/>
                </a:solidFill>
                <a:latin typeface="Arial"/>
              </a:rPr>
              <a:t> birthday.  After making her fifth monthly payment, she decided was beyond her ability to afford and tried to avoid the contract on the basis that she had been a minor when she entered into the contract.  Was she able to do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ffirmance</a:t>
            </a:r>
            <a:endParaRPr b="0" lang="en-US" sz="4000" spc="-1" strike="noStrike">
              <a:solidFill>
                <a:srgbClr val="000000"/>
              </a:solidFill>
              <a:latin typeface="Arial"/>
            </a:endParaRPr>
          </a:p>
        </p:txBody>
      </p:sp>
      <p:sp>
        <p:nvSpPr>
          <p:cNvPr id="75" name="PlaceHolder 2"/>
          <p:cNvSpPr>
            <a:spLocks noGrp="1"/>
          </p:cNvSpPr>
          <p:nvPr>
            <p:ph/>
          </p:nvPr>
        </p:nvSpPr>
        <p:spPr>
          <a:xfrm>
            <a:off x="0" y="914040"/>
            <a:ext cx="91440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a refusal to be bound by a previous legal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lacking contractual capacity can disaffirm a contract for necessaries or goods or services that are not necessaries:</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time while still under the incapacity</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a reasonable time after attaining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ification</a:t>
            </a:r>
            <a:endParaRPr b="0" lang="en-US" sz="4000" spc="-1" strike="noStrike">
              <a:solidFill>
                <a:srgbClr val="000000"/>
              </a:solidFill>
              <a:latin typeface="Arial"/>
            </a:endParaRPr>
          </a:p>
        </p:txBody>
      </p:sp>
      <p:sp>
        <p:nvSpPr>
          <p:cNvPr id="77" name="PlaceHolder 2"/>
          <p:cNvSpPr>
            <a:spLocks noGrp="1"/>
          </p:cNvSpPr>
          <p:nvPr>
            <p:ph/>
          </p:nvPr>
        </p:nvSpPr>
        <p:spPr>
          <a:xfrm>
            <a:off x="0" y="914040"/>
            <a:ext cx="9144000" cy="5211720"/>
          </a:xfrm>
          <a:prstGeom prst="rect">
            <a:avLst/>
          </a:prstGeom>
          <a:noFill/>
          <a:ln w="0">
            <a:noFill/>
          </a:ln>
        </p:spPr>
        <p:txBody>
          <a:bodyPr anchor="t">
            <a:normAutofit fontScale="84000"/>
          </a:bodyPr>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432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action by the party indicating intent to be bound by the contract.</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inor, ratification must occur after achieving majority)</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consists of: </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a new promise to perform as agreed</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ct that clearly indicates the party’s intention to be bound.</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79"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t-Approved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annot void any contracts approved for them by a court. (e.g. minors who are emplyed as actors/actresses/professionals in sports usually have their contracts approved by a court. Once approved, these contracts may not be disaffirme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1"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Commit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states, contracts to enlist in the armed services and contracts for educational loans cannot be disaffir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marriage contracts of minors cannot be disaffir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3"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minors are permitted to make deposits in banks and in savings and loan associations. Most states also permit minors to make withdrawals as if they were adults,  without any right to disaffirm these transaction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5"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nce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half of the states provide that minors who are over a certain age may not disaffirm certain contracts of life insu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Related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tates, minors who engage in a business or trade cannot disaffirm agreements involving their busi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7"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 of Realty / Apartment Rental</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states, a minor who owns real property and sells it or borrows money against it cannot disaffirm until after achieving majority.</a:t>
            </a: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few states, the lease of an apartment cannot be disaffirmed even if the apartment is not a necessary.</a:t>
            </a: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a:t>
            </a:r>
            <a:endParaRPr b="0" lang="en-US" sz="4400" spc="-1" strike="noStrike">
              <a:solidFill>
                <a:srgbClr val="000000"/>
              </a:solidFill>
              <a:latin typeface="Arial"/>
            </a:endParaRPr>
          </a:p>
        </p:txBody>
      </p:sp>
      <p:sp>
        <p:nvSpPr>
          <p:cNvPr id="89" name="PlaceHolder 2"/>
          <p:cNvSpPr>
            <a:spLocks noGrp="1"/>
          </p:cNvSpPr>
          <p:nvPr>
            <p:ph/>
          </p:nvPr>
        </p:nvSpPr>
        <p:spPr>
          <a:xfrm>
            <a:off x="0" y="1218960"/>
            <a:ext cx="9144000" cy="5638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on graduation from high school, Robinson, age 17, began a business doing electrical work. He bought $375 in tools from Muller. The venture was a disappointing failure. Discouraged after a month, Robinson asked Muller to take back the tools and to return his $375 paym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Muller do s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ler would not have to comply with Robinson’s demands in such states as Robinson would  not be able to avoid the purchase contract made for his busine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Must Be In A Contract?</a:t>
            </a:r>
            <a:endParaRPr b="0" lang="en-US" sz="4400" spc="-1" strike="noStrike">
              <a:solidFill>
                <a:srgbClr val="000000"/>
              </a:solidFill>
              <a:latin typeface="Arial"/>
            </a:endParaRPr>
          </a:p>
        </p:txBody>
      </p:sp>
      <p:sp>
        <p:nvSpPr>
          <p:cNvPr id="5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act </a:t>
            </a:r>
            <a:r>
              <a:rPr b="0" lang="en-US" sz="3200" spc="-1" strike="noStrike">
                <a:solidFill>
                  <a:srgbClr val="ffffff"/>
                </a:solidFill>
                <a:latin typeface="Arial"/>
              </a:rPr>
              <a:t>agreement between two parties that creates an oblig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major requirements: </a:t>
            </a:r>
            <a:r>
              <a:rPr b="0" i="1" lang="en-US" sz="2400" spc="-1" strike="noStrike">
                <a:solidFill>
                  <a:srgbClr val="ffffff"/>
                </a:solidFill>
                <a:latin typeface="Arial"/>
              </a:rPr>
              <a:t>(next slides)</a:t>
            </a:r>
            <a:br>
              <a:rPr sz="2400"/>
            </a:br>
            <a:r>
              <a:rPr b="0" i="1" lang="en-US" sz="2400" spc="-1" strike="noStrike">
                <a:solidFill>
                  <a:srgbClr val="ffffff"/>
                </a:solidFill>
                <a:latin typeface="Arial"/>
              </a:rPr>
              <a:t> </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amp; Acceptance              Consider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uine Assent                    </a:t>
            </a:r>
            <a:r>
              <a:rPr b="1" i="1" lang="en-US" sz="2800" spc="-1" strike="noStrike" u="sng">
                <a:solidFill>
                  <a:srgbClr val="ffffff"/>
                </a:solidFill>
                <a:uFillTx/>
                <a:latin typeface="Arial"/>
              </a:rPr>
              <a:t>Capac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ty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ckpoint</a:t>
            </a:r>
            <a:endParaRPr b="0" lang="en-US" sz="4000" spc="-1" strike="noStrike">
              <a:solidFill>
                <a:srgbClr val="000000"/>
              </a:solidFill>
              <a:latin typeface="Arial"/>
            </a:endParaRPr>
          </a:p>
        </p:txBody>
      </p:sp>
      <p:sp>
        <p:nvSpPr>
          <p:cNvPr id="91"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minors lie about their age, what happens in most states with regard to their ability to disaffirm contracts for goods and services are not necessarie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 if minors lie about their age, they still may disaffirm their contracts for goods or services that are not necessaries.</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ge 166-167</a:t>
            </a:r>
            <a:endParaRPr b="0" lang="en-US" sz="4400" spc="-1" strike="noStrike">
              <a:solidFill>
                <a:srgbClr val="000000"/>
              </a:solidFill>
              <a:latin typeface="Arial"/>
            </a:endParaRPr>
          </a:p>
        </p:txBody>
      </p:sp>
      <p:sp>
        <p:nvSpPr>
          <p:cNvPr id="93" name="PlaceHolder 2"/>
          <p:cNvSpPr>
            <a:spLocks noGrp="1"/>
          </p:cNvSpPr>
          <p:nvPr>
            <p:ph/>
          </p:nvPr>
        </p:nvSpPr>
        <p:spPr>
          <a:xfrm>
            <a:off x="1142640" y="1904760"/>
            <a:ext cx="716292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Vocabulary  # 1-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Debate #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Critically # 20-2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bloomberg.com/apps/news?pid=email_en&amp;sid=aOsV2TLja8jU#</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Capacit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Capacity </a:t>
            </a:r>
            <a:r>
              <a:rPr b="0" lang="en-US" sz="2800" spc="-1" strike="noStrike">
                <a:solidFill>
                  <a:srgbClr val="000000"/>
                </a:solidFill>
                <a:latin typeface="Arial"/>
              </a:rPr>
              <a:t>- ability to understand they are entering into a contract and the  consequences of a contra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apacitated </a:t>
            </a:r>
            <a:r>
              <a:rPr b="0" lang="en-US" sz="2800" spc="-1" strike="noStrike">
                <a:solidFill>
                  <a:srgbClr val="000000"/>
                </a:solidFill>
                <a:latin typeface="Arial"/>
              </a:rPr>
              <a:t>parties who have special contractual rights due to a legally recognized lack of such capacity includ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oxic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tally incapaci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ffirmance </a:t>
            </a:r>
            <a:r>
              <a:rPr b="0" lang="en-US" sz="3200" spc="-1" strike="noStrike">
                <a:solidFill>
                  <a:srgbClr val="000000"/>
                </a:solidFill>
                <a:latin typeface="Arial"/>
              </a:rPr>
              <a:t>a refusal to be bound by a previous legal commitment</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tected party disaffirms a contract, by law the protected party is to receive back whatever they have entered into the contract.</a:t>
            </a:r>
            <a:br>
              <a:rPr sz="24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cessaries</a:t>
            </a:r>
            <a:r>
              <a:rPr b="0" lang="en-US" sz="3200" spc="-1" strike="noStrike">
                <a:solidFill>
                  <a:srgbClr val="000000"/>
                </a:solidFill>
                <a:latin typeface="Arial"/>
              </a:rPr>
              <a:t> are things needed to maintain life. (food, clothing, shel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parties must pay at least a reasonable value for the necessaries even if they disaffirm the actual purchase contract</a:t>
            </a:r>
            <a:endParaRPr b="0" lang="en-US" sz="28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on for Lack of Capac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ontracts are considered void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isaffirm contracts during minorit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 of majority  - </a:t>
            </a:r>
            <a:r>
              <a:rPr b="0" lang="en-US" sz="3200" spc="-1" strike="noStrike">
                <a:solidFill>
                  <a:srgbClr val="000000"/>
                </a:solidFill>
                <a:latin typeface="Arial"/>
              </a:rPr>
              <a:t>age at which a person can be legally bound to contracts (1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ority </a:t>
            </a:r>
            <a:r>
              <a:rPr b="0" lang="en-US" sz="3200" spc="-1" strike="noStrike">
                <a:solidFill>
                  <a:srgbClr val="000000"/>
                </a:solidFill>
                <a:latin typeface="Arial"/>
              </a:rPr>
              <a:t>minor part of a person's life, end the day before they turn the age of 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ncipation</a:t>
            </a:r>
            <a:endParaRPr b="0" lang="en-US" sz="4400" spc="-1" strike="noStrike">
              <a:solidFill>
                <a:srgbClr val="000000"/>
              </a:solidFill>
              <a:latin typeface="Arial"/>
            </a:endParaRPr>
          </a:p>
        </p:txBody>
      </p:sp>
      <p:sp>
        <p:nvSpPr>
          <p:cNvPr id="63" name="PlaceHolder 2"/>
          <p:cNvSpPr>
            <a:spLocks noGrp="1"/>
          </p:cNvSpPr>
          <p:nvPr>
            <p:ph/>
          </p:nvPr>
        </p:nvSpPr>
        <p:spPr>
          <a:xfrm>
            <a:off x="456840" y="1143000"/>
            <a:ext cx="8381880" cy="55627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ng of child-parent relationship.</a:t>
            </a:r>
            <a:br>
              <a:rPr sz="3200"/>
            </a:br>
            <a:endParaRPr b="0" lang="en-US" sz="32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ent &amp; minor agree to cease support</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arri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oves out of family home</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becomes member of armed forc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gives birth</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undertakes full-time employment</a:t>
            </a:r>
            <a:endParaRPr b="0" lang="en-US" sz="3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ound to contracts if emancipated, even if it is before the age of majority (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Incapacit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w, means that a person lacks the ability to understand the consequences of his or her contra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mental ill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rules that a person is insane, then they lack capacity and contracts are vo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xica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use of alcohol or drugs</a:t>
            </a:r>
            <a:endParaRPr b="0" lang="en-US" sz="3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oxication, viewed by Law, means a person lacks the ability to understand consequences of their contracts. </a:t>
            </a:r>
            <a:r>
              <a:rPr b="0" lang="en-US" sz="2600" spc="-1" strike="noStrike">
                <a:solidFill>
                  <a:srgbClr val="000000"/>
                </a:solidFill>
                <a:latin typeface="Arial"/>
              </a:rPr>
              <a:t>(same definition as incapacity)</a:t>
            </a:r>
            <a:endParaRPr b="0" lang="en-US" sz="26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cter standard is used because it is a VOLUNTARY ac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abitual Drunkard” – Void contr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903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en can a person who lacks contractual capacity disaffirm a contr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457200" y="3123720"/>
            <a:ext cx="8229600" cy="3002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can occur at any time unti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pacity is gained or reg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7" dur="2000"/>
                                        <p:tgtEl>
                                          <p:spTgt spid="69">
                                            <p:txEl>
                                              <p:pRg st="0" end="0"/>
                                            </p:txEl>
                                          </p:spTgt>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69">
                                            <p:txEl>
                                              <p:pRg st="1" end="1"/>
                                            </p:txEl>
                                          </p:spTgt>
                                        </p:tgtEl>
                                        <p:attrNameLst>
                                          <p:attrName>style.visibility</p:attrName>
                                        </p:attrNameLst>
                                      </p:cBhvr>
                                      <p:to>
                                        <p:strVal val="visible"/>
                                      </p:to>
                                    </p:set>
                                    <p:animEffect filter="diamond(in)" transition="in">
                                      <p:cBhvr additive="repl">
                                        <p:cTn id="11"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4-29T15:20:11Z</dcterms:modified>
  <cp:revision>50</cp:revision>
  <dc:subject/>
  <dc:title>Business Law</dc:title>
</cp:coreProperties>
</file>